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251-3022-4B0E-ABA7-3E9197B3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D58-4C82-48AE-BCDD-6821065D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998-3007-4EA3-BB31-23DD128A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4AE-1E18-4645-827D-C4E5EA40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68D2-9E09-4097-99A7-C88BE082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C82D-F501-41B7-800D-CC9EC351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0C34-4663-43E7-945D-962D383E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6300-D602-41CB-B214-ED91D4D6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6BDB-6327-45E2-9023-C629DC0C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30BF-3022-4666-A7D7-077FCA7D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F93-BB1B-40FB-A7DD-A7E3E129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6BF-645D-4D5E-9A58-7D3BF774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5077-DC0E-4B21-B85F-B299AC43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B5A0-3B83-432F-8C55-F7DCEEAB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F20B-5EA3-46FF-8737-A5F33846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2EA1-926C-477F-ACFB-8CE77FD3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2DC4-6166-4936-802A-F7502AB3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BEB-4FA4-4122-9072-4C0B639B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4B2-54A0-4226-ABED-7BF7E41E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1D3-48EA-46E3-B49C-9D5F81EB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ADD-454D-47CF-8B61-1C67D814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CA8-F72D-4219-AB5A-254E0C6E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45F-871A-4AB5-BEDC-1736ACE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4CC-80F6-4744-BA90-F4776F7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F192-F08C-4F51-BA67-B39633576FD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E0C5-E1CC-4FF8-9159-A91F8CDF295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.kellett@open.ac.uk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Ethics and research by young peop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y Kell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.kellett@open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tiality and anony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ce of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ption and coer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age and ownership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s and responsi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evels of ‘consent’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party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nt by prox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l’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l’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going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rcle of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80360" y="2997360"/>
            <a:ext cx="761760" cy="88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Confidentiality and anonym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dential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ony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urred bound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far can you go to ensure anonym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ect for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Absence of har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cipant wellbeing is param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o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Deception and coer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deception in research te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cking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disclosing true research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t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oercion in research terms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gesting rewards/favours as induc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ts of adverse conseque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Storage and ownership of dat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cure, locked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has access to the d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owns the d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isions about destroy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de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Ethical roles and responsibili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40000" y="1676160"/>
            <a:ext cx="47019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ult supp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lp child researchers arrive at ethical research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ithdraw support  from unethical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on’t make rash prom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lp child researchers to keep projects fea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suring wellbeing of child researc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lear the way with gatekee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sclosure of ab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port child researchers with secure data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1320" y="1676160"/>
            <a:ext cx="36226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 researc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ical research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ed / ongoing con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use no harm or dist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ec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closure of ab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data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 findings with participa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amples of questionable practi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lving participants without their knowledge or con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ercing them to particip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holding information about the true nature of the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uading participants to engage in acts which diminish their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ading priv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sing individuals to physical, mental or emotional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holding a benefit in order to prove a causal link in a compariso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ck of consideration and/or respect for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0:21:58Z</dcterms:created>
  <dc:creator>Mary Kellett</dc:creator>
  <dc:description/>
  <dc:language>en-US</dc:language>
  <cp:lastModifiedBy>ali</cp:lastModifiedBy>
  <dcterms:modified xsi:type="dcterms:W3CDTF">2008-01-05T19:06:22Z</dcterms:modified>
  <cp:revision>13</cp:revision>
  <dc:subject/>
  <dc:title>Ethical considerations in research with vulnerable groups</dc:title>
</cp:coreProperties>
</file>